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EC8-B701-4479-BBAC-3F545E2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449-3907-411D-BAF2-41DD8BB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D0E-F690-4927-9B9B-B4BEED38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B4B-F71F-48DC-9284-63D6FB2D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A714-A15A-4F72-971D-930DB62E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40C1-C95D-441B-9F7E-1DD23419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9D6-6F75-4AAB-A133-9DE1DA8D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E65-FD08-44B2-942E-BC01BB0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3E8C-CF93-421F-B7F0-9A527CE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2664-3158-4D45-8CB1-AA82AB5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0DB-BFE8-400B-9E93-BA7C25D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39F-7067-4BE7-B80E-DF5387B4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2D7B-9870-461D-ACE7-142A9E8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CB97-0A25-430B-BEAF-FACDB1CD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2B9E-8467-41C3-B13D-8BD1961A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CFE-A9B3-47F5-B1F0-6BB655B2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77A-7BFD-4123-8749-C50E91DF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C6E4-B187-4C32-824F-EE1896A9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402C-3A87-4447-BE0E-0FAB0A7C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157C-61DB-45CF-8B8A-C23D813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A883-4719-4C99-A6C1-979ABAB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C99D-F68B-484E-BF7C-6E9092A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94E-CF45-4E0B-A5DD-6049BA5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7804-CEDA-4599-93DD-928B7E14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5E9B-77DE-485E-83CF-37A715F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079D-98ED-48C6-B896-0E8E12B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52EE-71D5-4D17-85A7-F477F79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FC76-4EB1-401A-9A82-7E58E08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49FC-B30C-464A-B0F2-26D55B31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B04B-C5C5-472E-B7C7-D66EB2D1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D30B-E9D9-4F06-9D10-C4193490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5545-E8C7-458A-8E8F-26448EF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60B7-A774-449F-A84E-9D2ECA3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1FE-223C-427E-9ED5-6C2995B2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F1C9-914C-4078-A090-A89213E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EF9B-1550-40F4-8C38-B29B4FA5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5BB3-09C0-473A-AC4D-79C0785D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48DD-0561-413E-AF5C-0856C1A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BDC2-D11C-4BA1-B7FF-7CECE7F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E794-7677-4C52-91E2-E32843AD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1710-DBB5-4AE6-A74B-D9FD096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4D92-E76D-4486-96C8-A558BFB3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93C6-42BE-4A65-A792-64BF1C74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C95-C7D4-4B24-8529-15E4FBB5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454-8A9C-4D2D-8F5A-762233D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180-04C7-4BC7-86A3-1B98569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0B7-67C0-4D34-B622-92D4AFF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061-0F77-4F3C-9FD3-5D949528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87D-830B-437B-B0FA-C907E1A425A3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53DC-8210-47CA-A8B4-4C7DF0EC26A4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CF3B-16D6-42C5-80CC-2F63403F0E5E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1BF-D072-43DA-AC95-3B28178AF509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SISTEME DE OPERA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onstantia"/>
              </a:rPr>
              <a:t>NAVIGARE WE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DIRECTOR PROI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7491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FISIER SUNET  - T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Imagine 1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201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CREARE FISIER AUDIO CU FUND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Imagine 4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204" name="Imagine 10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3881520" cy="2916360"/>
          </a:xfrm>
          <a:prstGeom prst="rect">
            <a:avLst/>
          </a:prstGeom>
          <a:ln w="0">
            <a:noFill/>
          </a:ln>
        </p:spPr>
      </p:pic>
      <p:pic>
        <p:nvPicPr>
          <p:cNvPr id="205" name="Imagine 34" descr=""/>
          <p:cNvPicPr/>
          <p:nvPr/>
        </p:nvPicPr>
        <p:blipFill>
          <a:blip r:embed="rId3"/>
          <a:stretch/>
        </p:blipFill>
        <p:spPr>
          <a:xfrm>
            <a:off x="2143080" y="38322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ARE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CREARE PAGINI WIKI </a:t>
            </a:r>
            <a:br>
              <a:rPr sz="4500"/>
            </a:b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– ADAUGARE FISI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ADAUGARE IMAGINI SUNETE PE W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POSTARE EVALUARI PE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Vivi</cp:lastModifiedBy>
  <dcterms:modified xsi:type="dcterms:W3CDTF">2012-02-12T16:06:15Z</dcterms:modified>
  <cp:revision>3</cp:revision>
  <dc:subject/>
  <dc:title>CAPITOL 1</dc:title>
</cp:coreProperties>
</file>